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8BF5-2F4C-46E0-B924-758E82A4949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5807-E21C-4C95-A40D-6DC5E38362E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EF6D-1CF1-4B13-90AF-73A0F8DFA4B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27A6-28B3-4A0B-A769-1976980A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32A4-0A3F-4991-B370-2B025B50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A389-1512-4473-9BA7-654697CA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5065-B25F-4108-870D-F8E3229C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CD05-66B0-445A-B4B8-BD264858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80D7-C217-482F-82E2-BA9553BF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836F-C2BA-47BD-B4FB-14046200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2A1B-1666-4352-A468-0385C53A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1896-0EC2-4C52-A69B-76D24B4D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5650-B3D2-4211-935D-22885610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8B6A-1411-4152-90E1-330583BE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164C-8CB9-4397-952A-1C426DE3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E988-8153-4615-99D1-24DB95B5C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UMTS - Security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and der Standard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land Schm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Nova Deutsche Telekom Innovations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ologiezentrum Darm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fan Pü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Mo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perationen auf der US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219320"/>
          <a:ext cx="685800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6858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10280" y="5195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HLR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5729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Key Fre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4100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9436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G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2520" y="1523880"/>
          <a:ext cx="3878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523880"/>
                    <a:ext cx="3878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U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76680" y="1523880"/>
          <a:ext cx="3776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523880"/>
                    <a:ext cx="3776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ASUMI: Der UMTS Cipher- and Integrity Algorith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SUMI = Jap.: Nebel (Blockchiff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chlüsselungsalgo. f8: KASUMI in OF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ert auf der Blockchiffre MIS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esigner: M. Matsui, Mitsubis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wickelt von ETSI SAGE (07/99-10/99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GE: Security Algorithm Group of Expe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durch drei Teams (11/99-12/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t Preneel/Lars Knudsen (Leuven/Ber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cques Stern (ENS 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ed Piper (Royal Holloway Lond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kation erwartet unter www.etsi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usblick: 3G Security Work Items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ased 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 execution environment (MexE)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bility and config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M application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ud information gathering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a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iteraturhinwe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lker 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ecurity of 3G System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 Proc. EUROCRYP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ity for the Third-Generation Mobile Radio System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M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ritish Telecom. Engineering Journal, Aug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Transport of Authentication Data in Third-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neration Mobile Network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CQR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Interoperation of 2G and 3G Mobile Networks,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3G2000/Mobile Communicat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- Standardisierungsgre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sicht UMTS-Sicher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nzip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en gegenüber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Authentikationsprotoko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thentication and Key Agreement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G/3G Inter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Verschlüsselungsalgorithmus KAS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Beteiligte Gre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 (3rd Geneneration Partnership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aufbauend auf GSM Spez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eiligte Organis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SI (Euro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B, TTC (Ja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TA (Ko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WTS (Ch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basierend auf ANSI/TIA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Security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gründet Februa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. Walker, Vodafone (chai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. Pütz, T-Mobil; 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vici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cent (vice cha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retene Parte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steller: Alcatel, Ericss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pl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Lucent, Mitsubishi, Motorola, Nokia , Panasonic,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reiber: BT, FT, ICO, MMO, NTT DoCoM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omtel, Philip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nor, Telia, T-Mobil,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hörden: BMWi, DTI, Re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s-Doku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GPP TS 33.102 UMTS Securit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cherheitsprinzipien von UM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828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basiert auf 2G Sicherheits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ährte 2G Sicherheitselemente wie die SIM-Karte als Sicherheitsmodul werden überno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verbessert die Sicherheit von 2G 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kannte Schwächen von 2G Systemen werden korrigie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wird neue Sicherheitsdienste ermögl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533520"/>
            <a:ext cx="8018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rkannte Schwächen der 2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150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tive Attacken (“IMSI Catching”) basierend auf “False Base Sta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chlüsselung endet in den Basiss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lüssel und Authentikationsdaten werden im Klartext innerhalb und zwischen Netzen übermitt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in 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tische Attacken auf den Verschlüsselungs-algorithmus A5/1 veröffent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Verbesserungen durch 3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thentikation des HLRs gegenüber der U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achweis frischer Schlüssel (Key fresh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ue Algorit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28 Bit Schlüssellängen (K, CK, 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lüsselung endet im R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ptionaler Di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-wide user traffic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Authentication and Key Agreement (AKA)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1600200"/>
          <a:ext cx="6705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05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rzeugen des UMTS Authentikationsvektors im AU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66840" y="1498680"/>
          <a:ext cx="63532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498680"/>
                    <a:ext cx="63532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1:20:17Z</dcterms:created>
  <dc:creator>schmitz</dc:creator>
  <dc:description/>
  <dc:language>en-US</dc:language>
  <cp:lastModifiedBy>Superuser</cp:lastModifiedBy>
  <cp:lastPrinted>2000-03-26T20:41:21Z</cp:lastPrinted>
  <dcterms:modified xsi:type="dcterms:W3CDTF">2002-04-20T19:07:24Z</dcterms:modified>
  <cp:revision>25</cp:revision>
  <dc:subject/>
  <dc:title>Secure Interoperation  of 2G and 3G Networks</dc:title>
</cp:coreProperties>
</file>